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9661-2AEB-4867-9182-8FFED95134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7C31-7C13-44EC-9A02-024962CC5D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B09B-4971-4DA3-9B36-6D5C79F065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158E-29B3-4F58-8EDB-1A31E327FB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B09F-1E2A-4B30-A04D-B5AE4A8A2E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F036-BFDA-4D6A-90BE-AC8A75C742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3810-1BD9-4560-839E-7FCCC14B66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B7C4-133C-4875-A6FF-789F003104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9B2-FA14-4B05-86CF-3CEA1105B5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AA6D-DE5F-4A85-A545-8004EF8A4D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3294-CCC0-4030-B935-22D0FE4D64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1CEC-77D9-4D1B-B49E-60EAFF61E1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871C-1BB9-4D5D-8B4D-83032EA230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652-F95A-4144-B5FE-959A103E5B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901E-4163-4AB1-B320-2BB8663B88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E90C-CB06-43A7-95A4-101FC4699C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97A6-4E2F-41AD-968B-8D1C8198BD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7589-4A1F-4A69-939C-7372A8E3E7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4F68-325E-40D7-8F94-CE3FD79ECB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BF3C-1EFE-4A43-B7A5-75642FAE48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7D0A-0BC6-400F-ADF7-A25CFF38AC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94A-C656-4324-BFD0-958605D450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9D40-A157-4DA9-95C8-CE3393F0E0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C29-EDFA-4D6A-8BAC-8F3C3CA15E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B390-9C8E-4D30-A37B-BEBDB98067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D862-BE49-4C7B-AAC4-E3A4991C23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122D-6200-4FF6-A129-57D07C6EF6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4649-E113-44A2-A043-4C7F2433F2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EA36-27E8-4162-B25F-3F07CABE3C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2DA9-DC26-4E88-AB9E-6A057C5B55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C4A6-0B7E-4DF8-B2F7-1BD8D3B85F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B8F-CA83-4A6C-B1F0-215BF95F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63E-63FA-4C08-8027-26F4CC14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439-2466-4A4C-A468-E1A9E3F4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37D-3E78-4059-B57D-61063C2C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6C47-3F2A-4BBD-A6CF-F0EAC48D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404F-48D4-4784-9568-FDED214F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C243-551F-468C-B66C-4C0F1FA6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8155-F470-4F71-AA84-2F8A33A0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6885-E186-4432-BCDD-41BE70D7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696B-47C8-4919-A258-A6DD89B2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9415-5ECC-4D27-9061-8AD3F1CE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D40-83F2-476D-9EC0-AF1E16A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ED00-EE79-427E-9A53-EA43BEB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B289-918A-4B82-B6BA-57F11C23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6437-2651-4DDE-9852-369997DD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5639-81D5-4DC6-B0E0-0AF8CEDA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1126-ACF4-4BBC-9827-40A47A8D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0AD-8D62-41C3-A723-BC2F0E50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6AC-051A-4AC7-8FAF-3F727CF8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82C-A5D0-4E76-9C02-6420D9A0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CF7-A843-4285-9ED3-A131F457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5D0-98A1-41D9-8707-B7D1A37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2E3-0BEE-4640-9C2B-74BEE98F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F15-B565-469C-8549-618F7B1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9DB-C471-4070-9060-B0DED31AB2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2B79-90DA-4181-818E-639E17A112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E658-A985-492D-964C-1CD5B53B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89154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906768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9220320" y="122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2" descr="thumb image"/>
          <p:cNvPicPr/>
          <p:nvPr/>
        </p:nvPicPr>
        <p:blipFill>
          <a:blip r:embed="rId1"/>
          <a:stretch/>
        </p:blipFill>
        <p:spPr>
          <a:xfrm>
            <a:off x="2619360" y="785880"/>
            <a:ext cx="3038400" cy="32526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1487520" y="3803760"/>
            <a:ext cx="582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4DF9-4316-4257-A5CD-0FEB9C5A05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இந்திய</a:t>
            </a:r>
            <a:r>
              <a:rPr b="0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நிறு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ம</a:t>
            </a:r>
            <a:r>
              <a:rPr b="1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ச்</a:t>
            </a:r>
            <a:r>
              <a:rPr b="0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சட்டத்தின்</a:t>
            </a:r>
            <a:r>
              <a:rPr b="0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வரலாறும்</a:t>
            </a:r>
            <a:r>
              <a:rPr b="0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ta-IN" sz="1800" spc="-1" strike="noStrike" u="sng">
                <a:solidFill>
                  <a:srgbClr val="000000"/>
                </a:solidFill>
                <a:uFillTx/>
                <a:latin typeface="Tahoma"/>
              </a:rPr>
              <a:t>பரிணாமும்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mini"/>
              </a:rPr>
              <a:t>mjd; gpd;dh; xt;nthU KiwAk; tsh;r;rpf;Nfw;wthW khw;wp mikf;fg;gl;lJ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இந்த நிறுவனச் சட்டத்தை சுதந்திரத்திற்கு பிறகு மீளாய்வுசெய்யும் போத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50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ம் ஆண்டு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.C.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பாபா தலைமையில் இந்திய அரசு ஒரு குழுவை அமைத்தத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அந்தக் குழுவின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பரிந்துரையின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அடிப்படையிலும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இங்கிலாந்து நிறுவனச் சட்டம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48 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விதிமுறைகளின் அடிப்படையிலும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56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ம் ஆண்டு இந்திசட்டம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56 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நடைமுறைக்கு வந்தத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இந்திய நிறுவனம் சட்டம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56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ம் ஆண்ட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06 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மற்றும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09 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ஆம் ஆண்டுகளில் காலத்திற்கு தகுந்தாற் போல் சில முக்கிய மாற்றங்களை செய்து திருத்தி அமைக்கப்பட்டத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மீண்டும்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13</a:t>
            </a: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ம் ஆண்டு இந்திய நிறுவனச் சட்டம் திருத்தி அமைக்கப்பட்டது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இக்கூட்டம் புதிய கருத்துக்களையும்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வரையறுகளையும்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அறிமுகப்படுத்தி தொழில் தேவைகளை சீராக்க முயற்சித்து வருகிறது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ய நிறுவனங்கள் சட்டம் பாராளுமன்றத்தில் அறிமுகப்பட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1.04.1956 </a:t>
            </a:r>
            <a:r>
              <a:rPr b="1" lang="ta-IN" sz="1600" spc="-1" strike="noStrike">
                <a:solidFill>
                  <a:srgbClr val="000000"/>
                </a:solidFill>
                <a:latin typeface="Tahoma"/>
              </a:rPr>
              <a:t>முதல் இந்திய நிறுவனங்கள்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0060-33F7-43C0-A03C-3052916B9E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2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ஆண்டு டிசம்பர் தி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தேதி லோக் சபாவில் நிறைவேற்றப்பட்ட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ஆண்டு ஆகஸ்ட் தி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தேதி ராஜ்யசபாவில் நிறைவேற்றப்பட்ட பின்னர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ஆண்டு ஆகஸ்ட் தி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9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நாள் குடியரசு தலைவரின் ஒப்புதலுடன் இந்திய நிறுவனச் 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ைவேற்றப்பட்டு வருகிற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ச்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த்தியாய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470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ிரிவுகள் மற்ற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ட்டவணைகளை கொண்ட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(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ஆனால் இதற்கு முன் இருந்த நிறுவனச் 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956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ல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த்தியாய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658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திவுகள் மற்ற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5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ட்டவணைகளை உள்ளடக்கி இருந்த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ந்திய நிறுவனச் 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ல் பதிவுசெய்யப்பட்ட வல்லுநர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ரசு நிறுவன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தகவல் மற்றும் புள்ளியல் கொடுக்கும் நிறுவன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தி நிறுவன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தேசிய நிறுவன சட்ட தீர்ப்பாயம் மற்றும் மேல்முறையீடு தீர்ப்பாயம் மற்றும் சிறப்பு நீதிமன்றங்கள் ஆகியவற்றிற்கு தனித்தனியே அத்தியாயங்கள் அறிமுகப்படுத்தப்பட்டு உள்ள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ுதிய இந்திய நிறுவனச் 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ஏற்படுத்தப்பட்ட சில முக்கிய அடிப்படை மாற்றங்கள் பின்வருமாற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4400" spc="-1" strike="noStrike" u="sng">
                <a:solidFill>
                  <a:srgbClr val="333399"/>
                </a:solidFill>
                <a:uFillTx/>
                <a:latin typeface="Tahoma"/>
              </a:rPr>
              <a:t>நிறு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ம</a:t>
            </a:r>
            <a:r>
              <a:rPr b="1" lang="ta-IN" sz="4400" spc="-1" strike="noStrike" u="sng">
                <a:solidFill>
                  <a:srgbClr val="333399"/>
                </a:solidFill>
                <a:uFillTx/>
                <a:latin typeface="Tahoma"/>
              </a:rPr>
              <a:t>ச்</a:t>
            </a:r>
            <a:r>
              <a:rPr b="0" lang="ta-IN" sz="44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1" lang="ta-IN" sz="4400" spc="-1" strike="noStrike" u="sng">
                <a:solidFill>
                  <a:srgbClr val="333399"/>
                </a:solidFill>
                <a:uFillTx/>
                <a:latin typeface="Tahoma"/>
              </a:rPr>
              <a:t>சட்டம்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20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52280" y="457200"/>
          <a:ext cx="8763120" cy="5540400"/>
        </p:xfrm>
        <a:graphic>
          <a:graphicData uri="http://schemas.openxmlformats.org/drawingml/2006/table">
            <a:tbl>
              <a:tblPr/>
              <a:tblGrid>
                <a:gridCol w="874800"/>
                <a:gridCol w="2077920"/>
                <a:gridCol w="2295720"/>
                <a:gridCol w="3514680"/>
              </a:tblGrid>
              <a:tr h="682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எண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நிறுவன கூட்டு உருவாக்கம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நிறுவனங்களின் வகைகள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ொதுத்துறை நிறுவனம்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,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தனியார்த்துறை நிறுவனம்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,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ஒரு நபர் நிறுவனம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தனியார் நிறுவங்களுக்கான அதகிபட்ச உறுப்பினர்கள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ஒர தனியார் நிறுவனம் அதகிபட்சமாக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200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உறுப்பினாக்ளை வைத்துக் கொண்டிருக்கலாம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ஒரு நபர் நிறுவனம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ுதிய கருத்து அறிமுகப்படுத்தப்பட்டது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தொழில் துவங்க சான்றிதழ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ங்கு மூலதனம் கொண்ட அனைத்து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நிறுவனங்களுக்கும் இது பொருந்தும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அமைப்புமுறை சாசனம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ரோகக்நிலை பிரிவ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இந்த சாசனத்தில் கூட்டு உருவாக்க செய்யப்பட உள்ள நிறுவனத்தின் ரோக்கத்தை உள்ளடக்கி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இருக்க வேண்டும் மேலும் தேவைப்படுகிற அனைத்து விவரங்களையும் கொண்டிருக்க வேண்டும்</a:t>
                      </a:r>
                      <a:br>
                        <a:rPr sz="1300"/>
                      </a:b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0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ுக்கிய நிர்வாக நபர்கள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ிரிவு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2 (5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ுக்கிய நிர்வாக நபர்கள் என்ற சொல் கீழ்கண்டவர்களை உள்ளடக்கியது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i)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தலைமை நிர்வாக அதிகாரி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(CEO) 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அ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)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ேலாண்மை இயக்குநர்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(MD)     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ஆ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)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ேலாளர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ii) 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நிறுவனச் செயலர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iii) 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ுழு நேர நிர்வாக இயக்குநர்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(WTD)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iv)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தலைமை நிதி அலுவலர்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(CFO)  </a:t>
                      </a:r>
                      <a:r>
                        <a:rPr b="1" lang="ta-IN" sz="13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ற்றும் பிற அதிகாரிகளையும் தேவைப்பட்டால் பரிந்துரைக்கலாம்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1605-892B-4D26-BC67-C6069B9CCC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533520"/>
          <a:ext cx="8458200" cy="5397480"/>
        </p:xfrm>
        <a:graphic>
          <a:graphicData uri="http://schemas.openxmlformats.org/drawingml/2006/table">
            <a:tbl>
              <a:tblPr/>
              <a:tblGrid>
                <a:gridCol w="152280"/>
                <a:gridCol w="1828800"/>
                <a:gridCol w="1752480"/>
                <a:gridCol w="4724640"/>
              </a:tblGrid>
              <a:tr h="19587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ுழு நேர முக்கிய நிர்வாக நபர்களை பணியமர்த்துதல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ிரிவ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ஒவ்வொரு நிறுவனமும் தங்களுடைய முக்கிய நிர்வாக நபர்கள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(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)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குழுக்களை கொண்டிருக்க வேண்டும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அதை பற்றிய விவரத்தை உரிய பிரிவின் கீழ் காண்பிக்க வேண்டும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உதாரணமாக முழு நேர இயக்குநர் இல்லாத நிலையில் மேலாளார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,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நிர்வாக அதிகாரி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,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நிறுவனத்தின் செயலாளர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,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தலைமை நிதி அதிகார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ங்கு முதல் வெளியீடு தொடர்பா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ங்குகளை தள்ளுபடியில் வெளியடுதல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Sweet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சாதாரண பங்குககள் பணியாளர்கள் தவிர ஏனைய பங்குகளை தள்ளுபடியில் வெளியிட கூடாத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87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இருபது ஆண்டுகளுக்கு பிறகு மீட்க கூடிய முன்னுரிமைப் பங்குகள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ரிந்துரைக்கப்பட்ட உள்கட்டமைப்பு திட்டங்களுக்காக வெளியிடப்பட்ட முன்னுரிமைப் பங்குகளை தவிர ஏனையவற்ற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20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ஆண்டுகளுக்குள் மீட்கப்பட வேண்டும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தேவைப்பட்டால் பங்குதாரர்களின் விருப்பத்தின் அடிப்படையில் ஒரு குறிப்பிட்ட சதவீத பங்குகளை ஆண்டுதோறும மீட்டெடுக்கலாம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ங்கு மூலதன மாற்றத்தை அறிவித்தல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ீள்தர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/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முன்னுரிமை பங்குகளை மீட்ட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Latha"/>
                        </a:rPr>
                        <a:t>30 </a:t>
                      </a: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நாட்களுக்குள் அது தொடர்பான செய்தி நிறுவன பதிவாளருக்கு உரிய படிவத்தில் நிறுவனம் அறிவிக்க வேண்டும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1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ங்குகளை ஒருங்கிணைத்தல் மற்றும் பகிர்வு செய்தல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400" spc="-1" strike="noStrike">
                          <a:solidFill>
                            <a:srgbClr val="000000"/>
                          </a:solidFill>
                          <a:latin typeface="Calibri"/>
                          <a:cs typeface="Arial Unicode MS"/>
                        </a:rPr>
                        <a:t>பங்குகளை ஒருங்கிணைப்பு செய்தல் மற்றும் பகிர்வு செய்தல் காரணமாக பங்குதாரர்களின் வாக்குமூலத்தில் மாற்றங்களை ஏற்படுததுவதால் தீர்ப்பாயத்தின் ஒப்புதல் பெற்றிருத்தல் வேண்டும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7E38-A0C5-4652-A715-47DF9F700B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85800" y="76320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62856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Bamini"/>
                <a:ea typeface="Calibri"/>
              </a:rPr>
              <a:t>epWkk; vd;why; vd;d?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762120" y="2002680"/>
            <a:ext cx="815328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ிரிவு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(1)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ன்படி கம்பெனிச் 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ட்டப்படி கீழ்கண்டவாறு ஏதேனும் ஒன்றாக இருக்க வெண்டும் என கூறுகிறது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ஏழு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தற்கு மெற்பட்ட நபர் இருந்தால் அது பொது நிறுவனம் என்று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ரண்டு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தற்கு மேற்பட்ட நபராக இருந்தால் அது தனியார் நிறுவனம் என்று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 நபராக இருந்தால் அது ஒரு நபர் நிறுவனம் என்றும் கூறப்படுகிறது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 தனியார் நிறுவனம் தனது பெயர்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எந்த நபரின் பெயர் வைக்க வெண்டுமோ அதை அமைப்பு முறை சாசனத்தில் எழுதி சட்டப்படி தேவையான ஆவணங்களை வைத்து பதிவு செய்ய வெண்டும்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 நிறுவனத்தை உருவாக்க பல நடைமுறைகளை பல்வேறு வகையில் கையாள வெண்டும்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னிநபரின் கருத்துக்கள் மூலம் ஆரம்பம் முதல் முடிவு வரை தேவையான ஆவணங்கள் கொண்டு நிறுவனம் உருவாக்கப்படுகிறது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நிறுவனத்தை உருவாக்குதல் என்பது நான்கு நிலைகளை கொண்டது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நிர்வாகம்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omotion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திவு செய்தல்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gistration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i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ுதல் போடுதல்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pital Subscription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ியாபாரத்தை தொடங்குதல்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ommencement of Business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96DD-1FEA-4BA3-91AA-B0722BF2C5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779292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Bamini"/>
              </a:rPr>
              <a:t>gq;Ffspd; kw;Wk; fld; gj;jpuq;fspd; nghUs;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முதல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என்பதை லேமேன் கூறுகையில் ஒரு நபர் தன்னுடைய வியாபாரத்தில் முதலீடு செய்து அதன் மூலம் தன்னுடைய நிறுவனத்தை வளர்ச்சி அடைய செய்வதே முதல் ஆகும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இந்த முதல் தொகையை நிறுவனம் உயர்த்த பங்குகளை வெளியிடுகின்ற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இப்படி பங்குகளை வெளியீட்டு கிடைக்கக் கூடிய பணத்தினை கொண்டு நிறுவனம் ஆனது சரக்க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வணிக வளாகம் போன்ற சொத்துக்களை வாங்கி தனது நிலை முதலை உயர்த்துக்கின்றனர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கடன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பிறரிடமிருந்து வாங்கிய முதல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தொகையானது சில சூல்நிலைகளில் பணமாக பெறப்பட்டு நிறுவனத்தின் பாதுகாப்பினை கருத்தில் கொண்டு கடனீட்டு பத்திரங்களை வெளியீடுகின்ற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ஆனால் இதற்கு முதல் என்ற வார்த்தை பயன்படுத்த முடியாத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771-8065-46E7-8B0C-8356306FB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Bamini"/>
              </a:rPr>
              <a:t>gq;F rhd;wpjo; kw;Wk; gfph;T cj;juTfis gw;wpa fUj;Jfs;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  <a:ea typeface="Mangal"/>
              </a:rPr>
              <a:t>gq;Fjhuhpd; cilikf;F cz;ikr; rhl;rpakhf fUjg;gLtJ ,e;j gq;F rhd;wpjo; MFk. ,e;j rhd;wpjo; %yk; mjpy; Fwpg;gplg;gl;L cs;stUf;F jkJ epWtdj;jpd; gq;Ffspd; kPJs;s chpikia epWtdk; mwptpf;fpd;wJ. vdNt. me;jr; rhd;wpjopy; Fwpg;gplg;gl;Ls;s vz;fSila gq;Ffis mth; ahUf;F Ntz;LkhdhYk; tpw;gid nra;aNth (m) khw;wpj; juNth chpik ngWfpd;whh; vd epWtdr; rl;lk; 2013. gphpT 45 $WfpwJ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mini"/>
              </a:rPr>
              <a:t>gq;Fhpik Miz (m) </a:t>
            </a:r>
            <a:r>
              <a:rPr b="1" lang="en-US" sz="1800" spc="-1" strike="noStrike">
                <a:solidFill>
                  <a:srgbClr val="333399"/>
                </a:solidFill>
                <a:latin typeface="Bamini"/>
              </a:rPr>
              <a:t>gfph;T cj;j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amini"/>
              </a:rPr>
              <a:t>gq;Fhpik Miz vd;gJ epWtdk; toq;Fk; Xh; MtzkhFk;. gq;Fhpik Mizapy; Fwpg;gplg;gl;Ls;s vz;fSf;Fs;s gq;Ffs; kPJ ,jid itj;jpUg;gtUf;F chpik cs;sJ vd thf;FWjp mspj;J epWtdk; jdJ nghJ Kj;jpiuAld; ,jid ntspapLk;. epWtdk; Vw;fdNt kj;jpa murplk; ngw;w mDkjpia itj;Jf; nfhz;L nray;Kiw tpjpfspd;gb gq;Fhpik Mizia ntspapLk;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304920" y="801720"/>
            <a:ext cx="8458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130D-E26A-4323-A4F4-5030031CD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1142640"/>
            <a:ext cx="41068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amini"/>
              </a:rPr>
              <a:t>epWk Nkyhz;i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Bamini"/>
              </a:rPr>
              <a:t>epWkj;jpd; Nkyhz;ik fUj;ij Ghpe;J nfhs;Sj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நிறுவனத்தின் வியாபாரத்தை நடத்துவதற்கான பொறுப்பை நிறைவேற்றும் மனிதர்களின் குழு இயக்குநர்கள் குழு என அறியப்படுகிறது மேலும் குழு உறுப்பினர்கள் தனித்தனியாக இயக்குனர் என அழைக்கப்படும்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நிறுவனங்களின் விவகாரங்களைக் கட்டுப்படுத்துவதும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வழிகாட்டுதலும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இயக்குவதும் மற்றும் நிர்வகிப்பதும் போன்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நிறுவனத்தின் விவகாரங்களில் இயக்குநர்கள் முக்கிய பங்கு வகிக்கிறார்கள்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mini"/>
              </a:rPr>
              <a:t>,af;Feh; ahh;? vg;gb epakpf;fg;gLfpwhh; ? mth;fSf;fhd jFjpfisg; gw;wp mwpjy;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2017800"/>
            <a:ext cx="8726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கம்பனிகள் சட்டம் 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2013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பிரிவு 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2 (34)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ஒரு நிறுவனத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ij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நிர்வாகிக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Fk;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குழு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tpw;fhf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நியமிக்கப்பட்ட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th;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இயக்குனர் என்று வரையறுக்கிறது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ஒரு நிறுவனத்தின் இயக்குநர்களின் குழு உறுப்பினராக நியமிக்கப்பட்ட அல்லது தேர்ந்தெடுக்கப்பட்ட ஒரு நபரும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&gt;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குழுவில் உள்ள மற்றவர்களுடன் சேர்ந்து கொள்கைகளை நிர்ணயிப்பதற்கும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&gt;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செயல்படுத்துவதற்கும் பொறுப்பு உள்ளது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நிறுவனத்தில் ஏதேனும் பங்குகளை வைத்திருத்தல் அல்லது பணியாளராக இருத்தல் அவசியமில்லை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இயக்குநர்கள் குழு கூட்டத்தில் தயாரிக்கப்பட்ட தீர்மானங்களை அடிப்படையாகக் கொண்டும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&gt;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நிறுவனத்தின் செயல் முறை விதிகளில் தெரிவிக்கப்பட்டுள்ள அதிகாரங்களின் படி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Ak;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.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இயக்குநர்கள் செயல்படுகின்றனர்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1648-3273-42F1-9B43-5C1221B240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89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mini"/>
              </a:rPr>
              <a:t>,af;Feh;fs; FO&gt; ,af;Feh;fspd; rl;lg+h;t epiyg;ghL gw;wpa tpsf;fk;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2017440"/>
            <a:ext cx="8686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இயக்குநர்கள் குழு</a:t>
            </a: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ம்பனியின் ஆளும் குழ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வனங்களின் சட்டத்தின் கீழ் இணைக்கப்பட்டது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து ஒரு பொது வரையறுக்கப்பட்ட நிறுவனத்தின் பங்குதாரர்களின் கருத்துக்களை பிரதிநிதித்துவப்படுத்துவதற்க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ொள்கைகளை நிறுவுவதன் மூலம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லக்கை அடைவதற்கு அவற்றை நடைமுறைப்படுத்துவதன் மூலமும் நிர்வாகத்தை நிர்வகிப்பதற்கும் தேர்ந்தெடுக்கப்பட்ட தனிநபர்களின் ஒரு குழு ஆகும்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வனத்தை சரியான வழியில் வழிநடத்த பிரதான பிரச்சினைகள் மீது முடிவு எடுக்க அவர்கள் அதிகாரமளித்தனர்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ொதுவில் வாரியம் அதிகாரம் அளிக்கிறது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i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ொள்கைகளை அமைக்கவ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ii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லக்குகளை மறுசீரமைத்தல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iii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ர்வாக இயக்குனர் மற்றும் மூத்த நிர்வாகிகள் செயல்திறனை மதிப்பீடு செய்தல்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iv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ஒட்டுமொத்த இயக்க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v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ட்டங்கள் ஏற்றுக்கொள்ளுதல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vi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ங்கு ஆதாய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ஈவுத்தொகை நிர்ணயித்தல் மற்றும் செலுத்துதல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vii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ூடுதல் பங்குகளை வழங்குதல்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46DB-0E1E-4145-9F84-3FC2C280BC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mini"/>
              </a:rPr>
              <a:t>XU epWkj;jpypUe;J xU ,af;Fdiu vt;thW mfw;WtJ vd;gij mwpe;J nfhs;s cjTjy;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2017800"/>
            <a:ext cx="7772400" cy="36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500" spc="-1" strike="noStrike">
                <a:solidFill>
                  <a:srgbClr val="000000"/>
                </a:solidFill>
                <a:latin typeface="Tahoma"/>
              </a:rPr>
              <a:t>இயக்குன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ரை</a:t>
            </a:r>
            <a:r>
              <a:rPr b="1" lang="ta-IN" sz="2500" spc="-1" strike="noStrike">
                <a:solidFill>
                  <a:srgbClr val="000000"/>
                </a:solidFill>
                <a:latin typeface="Tahoma"/>
              </a:rPr>
              <a:t> அகற்றுதல்</a:t>
            </a:r>
            <a:r>
              <a:rPr b="0" lang="ta-IN" sz="25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நிற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ம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த்தின் இயக்குனர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அவருடைய பணி காலம் முடிவடைவதற்கு முன்னர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அவரது அலுவலகத்திலிருந்து நீக்கப்படலாம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பங்குதாரர்கள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மத்திய அரச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நிற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மச் 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சட்ட வாரியம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ஒரு இயக்குனர் தனது அலுவலகத்திலிருந்து பின்வரும் மூன்று வழிகளில் ஏதேனும் ஒரு வழியில் நீக்கப்படலாம்</a:t>
            </a:r>
            <a:r>
              <a:rPr b="0" lang="ta-IN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6C6-4976-4953-96C9-DB6E017441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mini"/>
              </a:rPr>
              <a:t>epWkj;jp;d; Nkyhz;ik njhlh;Gila kw;w eph;thf mjpfhhpfis gw;wpa jfty;fis Ghpe;Jf; nfhs;Sjy;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2017800"/>
            <a:ext cx="8726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Bami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2013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ஆம் ஆண்டின் </a:t>
            </a:r>
            <a:r>
              <a:rPr b="1" lang="ta-IN" sz="2000" spc="-1" strike="noStrike">
                <a:solidFill>
                  <a:srgbClr val="000000"/>
                </a:solidFill>
                <a:latin typeface="Bamini"/>
              </a:rPr>
              <a:t>நிறுவன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 சட்டத்தின் பிரிவு 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2 (51)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இல் முக்கிய மேலாண்மை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apy;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, </a:t>
            </a:r>
            <a:r>
              <a:rPr b="1" lang="ta-IN" sz="2000" spc="-1" strike="noStrike">
                <a:solidFill>
                  <a:srgbClr val="000000"/>
                </a:solidFill>
                <a:latin typeface="Bamini"/>
              </a:rPr>
              <a:t>நிறுவனத்தின் </a:t>
            </a:r>
            <a:r>
              <a:rPr b="1" lang="en-US" sz="2000" spc="-1" strike="noStrike">
                <a:solidFill>
                  <a:srgbClr val="000000"/>
                </a:solidFill>
                <a:latin typeface="Bamini"/>
              </a:rPr>
              <a:t>Kf;fpa mjpfhuk; cs;s egh;fs;:</a:t>
            </a:r>
            <a:r>
              <a:rPr b="1" lang="ta-IN" sz="20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amini"/>
              </a:rPr>
              <a:t>vd;gjwfhd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வரையறை உள்ளது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Bami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(1) Kjd;ik(m)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பிரதான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eph;thf mjpfh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Bami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(2)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நிர்வாக இயக்குனர் அல்லது மேலாளர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Bami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(3)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நிறுவனத்தின் செயலாளர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Bami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(4)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முழு நேர இயக்குநர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;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Bami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(5) Kjd;ik/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பிரதான நிதி அலுவலர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;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மற்றும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Bami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(6)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அத்தகைய மற்ற அலுவலர்கள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 </a:t>
            </a:r>
            <a:r>
              <a:rPr b="0" lang="ta-IN" sz="2000" spc="-1" strike="noStrike">
                <a:solidFill>
                  <a:srgbClr val="000000"/>
                </a:solidFill>
                <a:latin typeface="Bamini"/>
              </a:rPr>
              <a:t>பரிந்துரைக்கப்படலாம்</a:t>
            </a:r>
            <a:r>
              <a:rPr b="0" lang="en-US" sz="2000" spc="-1" strike="noStrike">
                <a:solidFill>
                  <a:srgbClr val="000000"/>
                </a:solidFill>
                <a:latin typeface="Bamin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DD94-34BE-42F2-BB7F-838E48841D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000C-3E24-4387-B45D-9B28301ED5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57200" y="831960"/>
            <a:ext cx="82296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474D-2A57-423B-9EF8-5C9FF0274D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5105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4000" spc="-1" strike="noStrike">
                <a:solidFill>
                  <a:srgbClr val="000000"/>
                </a:solidFill>
                <a:latin typeface="Tahoma"/>
              </a:rPr>
              <a:t>நிறுமச் செயலர்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678168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Latha"/>
                <a:cs typeface="Latha"/>
              </a:rPr>
              <a:t>பொதுவாக நிறும செயலரை ஒரு சாதாரண பணியாளராக கருத முடியாது</a:t>
            </a:r>
            <a:r>
              <a:rPr b="0" lang="en-US" sz="1900" spc="-1" strike="noStrike">
                <a:solidFill>
                  <a:srgbClr val="000000"/>
                </a:solidFill>
                <a:latin typeface="Latha"/>
                <a:ea typeface="Latha"/>
              </a:rPr>
              <a:t>.</a:t>
            </a:r>
            <a:r>
              <a:rPr b="0" lang="ta-IN" sz="1900" spc="-1" strike="noStrike">
                <a:solidFill>
                  <a:srgbClr val="000000"/>
                </a:solidFill>
                <a:latin typeface="Latha"/>
                <a:cs typeface="Latha"/>
              </a:rPr>
              <a:t>அவர் நிறுமத்தில் மிக பெரிய பொறுப்புள்ள அலுவலர்களில் ஒருவர் ஆவார்</a:t>
            </a:r>
            <a:r>
              <a:rPr b="0" lang="en-US" sz="1900" spc="-1" strike="noStrike">
                <a:solidFill>
                  <a:srgbClr val="000000"/>
                </a:solidFill>
                <a:latin typeface="Latha"/>
                <a:ea typeface="Lath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900" spc="-1" strike="noStrike">
                <a:solidFill>
                  <a:srgbClr val="000000"/>
                </a:solidFill>
                <a:latin typeface="Latha"/>
                <a:cs typeface="Latha"/>
              </a:rPr>
              <a:t>நிறுமக் கொள்கைகள் குறித்த ரகசியங்களை காத்தல்</a:t>
            </a:r>
            <a:r>
              <a:rPr b="0" lang="en-US" sz="1900" spc="-1" strike="noStrike">
                <a:solidFill>
                  <a:srgbClr val="000000"/>
                </a:solidFill>
                <a:latin typeface="Latha"/>
                <a:ea typeface="Latha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Latha"/>
                <a:cs typeface="Latha"/>
              </a:rPr>
              <a:t>நிதிச்சார்ந்த முடிவுகள் எடுத்தல் மற்றும் பணியாளர்களின் தேவைகளை பூர்த்தி செய்தல் போன்ற முக்கிய பொறுப்புகள் நிறும செயலருக்கு உண்டு</a:t>
            </a:r>
            <a:r>
              <a:rPr b="0" lang="en-US" sz="1900" spc="-1" strike="noStrike">
                <a:solidFill>
                  <a:srgbClr val="000000"/>
                </a:solidFill>
                <a:latin typeface="Latha"/>
                <a:ea typeface="Latha"/>
              </a:rPr>
              <a:t>. </a:t>
            </a:r>
            <a:r>
              <a:rPr b="0" lang="ta-IN" sz="1900" spc="-1" strike="noStrike">
                <a:solidFill>
                  <a:srgbClr val="000000"/>
                </a:solidFill>
                <a:latin typeface="Latha"/>
                <a:cs typeface="Latha"/>
              </a:rPr>
              <a:t>நிறுமத்தின் ஒட்டுமொத்த நிறுமத்தின் செயல்பாடுகளை இயக்கும் நபரே</a:t>
            </a:r>
            <a:r>
              <a:rPr b="0" lang="en-US" sz="1900" spc="-1" strike="noStrike">
                <a:solidFill>
                  <a:srgbClr val="000000"/>
                </a:solidFill>
                <a:latin typeface="Latha"/>
                <a:ea typeface="Latha"/>
              </a:rPr>
              <a:t>, </a:t>
            </a:r>
            <a:r>
              <a:rPr b="0" lang="ta-IN" sz="1900" spc="-1" strike="noStrike">
                <a:solidFill>
                  <a:srgbClr val="000000"/>
                </a:solidFill>
                <a:latin typeface="Latha"/>
                <a:cs typeface="Latha"/>
              </a:rPr>
              <a:t>நிறுமச் செயலர் என அழைக்கப்படுகிறார்</a:t>
            </a:r>
            <a:r>
              <a:rPr b="0" lang="en-US" sz="1000" spc="-1" strike="noStrike">
                <a:solidFill>
                  <a:srgbClr val="000000"/>
                </a:solidFill>
                <a:latin typeface="Latha"/>
                <a:ea typeface="Lath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FB3D-8C26-4991-B18F-3E16AB06D9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நிறுமச் செயல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ரை</a:t>
            </a: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 பணி அமர்த்துதல் மற்றும் பதவிநீக்கம்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நிறும செயலர் நியமனம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[Appointment of Company Secretary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மச்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ிரிவ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3, 204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யின் படி ஒவ்வொர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ட்டியலிட்ட நிறுமமும் ஒரு முழு நேர செயலரை பணி நியமனம் செய்ய வேண்ட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ட்டியலிடாத மற்றும் ரூ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5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ோடி அல்லது அதற்குமேல் பங்கு முதலுடைய தனி நிறுமமும் ஒரு முழுநேர செயலரை பணி நியமனம் செய்திருக்க வேண்ட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ந்திய நிறுமச் செயலார்கள் நிறுவனத்தில் உறுப்பினராக உள்ள ஒரு தனி நபரை மட்டுமே நிறும செயலாரக பணி நியமனம் செய்ய முடியும் என்பதை நினைவில் கொள்ளவ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ம செயலரை தோற்றுவிப்பாளரால் அல்லது இயக்குநர் அவையால் நியமனம் செய்ய முடிய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பொதுவாக கீழ்காணும் காணரத்திற்காக செயலர் பணி நீக்கம் செய்யப்படலாம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ெயலரின் பணிக்காலம் முடிந்தவுடன் நீக்கம் செய்யலா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ெயலர் உடன்படிக்கை விதிமுறைகள் மீறும் போது உரிய அறிவிப்பு மூலம் பணி நீக்கம் செய்யலா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ெயலர் இரகசிய இலாபம் ஈட்டினால் பணிநீக்கம் செய்யலா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ெயலர் தவறான நெறியின்றி நடக்கும் போது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ெயலர் ஒப்பந்தத்தை மீறி ஒழங்கீன நடவடிக்கையில் ஈடுபடும்போத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ஒத்துழையாமை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தகுதியின்மை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ணி நீக்கம் செய்யப்படலாம் நிரந்தர இயலாமை போன்ற காரணங்களாலும் பணி நீக்கம் செய்யப்படலா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நிறுமச் செயலரின் பணிகள்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3458-C1A0-4F18-A62D-B6AB3E655C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2240" y="2017800"/>
            <a:ext cx="750420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500" spc="-1" strike="noStrike">
                <a:solidFill>
                  <a:srgbClr val="ff0000"/>
                </a:solidFill>
                <a:latin typeface="Latha"/>
                <a:cs typeface="Latha"/>
              </a:rPr>
              <a:t>நிறும செயலரின் பணிகள்</a:t>
            </a:r>
            <a:r>
              <a:rPr b="1" lang="en-US" sz="2500" spc="-1" strike="noStrike">
                <a:solidFill>
                  <a:srgbClr val="ff0000"/>
                </a:solidFill>
                <a:latin typeface="Latha"/>
                <a:ea typeface="Latha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Latha"/>
                <a:ea typeface="Latha"/>
              </a:rPr>
              <a:t>/ </a:t>
            </a:r>
            <a:r>
              <a:rPr b="1" lang="ta-IN" sz="2500" spc="-1" strike="noStrike">
                <a:solidFill>
                  <a:srgbClr val="ff0000"/>
                </a:solidFill>
                <a:latin typeface="Latha"/>
                <a:cs typeface="Latha"/>
              </a:rPr>
              <a:t>கடமைகள்</a:t>
            </a:r>
            <a:r>
              <a:rPr b="1" lang="en-US" sz="2500" spc="-1" strike="noStrike">
                <a:solidFill>
                  <a:srgbClr val="ff0000"/>
                </a:solidFill>
                <a:latin typeface="Latha"/>
                <a:ea typeface="Latha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Latha"/>
                <a:ea typeface="Latha"/>
              </a:rPr>
              <a:t>[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tions/ Duties of Company Secretary]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நிறுமச் செயலரின் பணிகளை கீழ்காணும் இரண்டு பெறும் பிரிவுகளாக வகைப்படுத்தலாம்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.</a:t>
            </a: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அவைகளாவன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La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சட்டபூர்வமான பணிகள்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(</a:t>
            </a: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அ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) </a:t>
            </a: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கடமைகள்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La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சட்டபூர்வமற்ற பணிகள்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(</a:t>
            </a: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பிற பணிகள்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) (</a:t>
            </a: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அ</a:t>
            </a:r>
            <a:r>
              <a:rPr b="0" lang="en-US" sz="2500" spc="-1" strike="noStrike">
                <a:solidFill>
                  <a:srgbClr val="000000"/>
                </a:solidFill>
                <a:latin typeface="Latha"/>
                <a:ea typeface="Latha"/>
              </a:rPr>
              <a:t>) </a:t>
            </a:r>
            <a:r>
              <a:rPr b="0" lang="ta-IN" sz="2500" spc="-1" strike="noStrike">
                <a:solidFill>
                  <a:srgbClr val="000000"/>
                </a:solidFill>
                <a:latin typeface="Latha"/>
                <a:cs typeface="Latha"/>
              </a:rPr>
              <a:t>கடமைகள்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நிறுமச் செயலரின் உரிமைகள் மற்றும் பொறுப்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பு</a:t>
            </a: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கள்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நிறும செயலரின் உரிமைகளும் அதிகாரங்களும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[Powers and Rights of Company Secretary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மத்தின் உயர்நிலை அதிகாரியாக விளங்கும் செயலருக்கென சில உரிமைகளும் அதிகாரங்களும் உள்ள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வை நிறுமத்துடன் கூடிய ஒப்பந்ததிற்கு உட்பட்டதாக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வைகளாவன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கையொப்பம் இடும் உரிமை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அதிகாரம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மேற்பார்வை மற்றும் கட்டுப்படுத்தும் அதிகார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அதிகாரத்தை செலுத்தல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சான்றிதழ் வழங்கும் உரிமை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ஊதியம் மற்றும் இழப்பீடு கோரும் உரிமை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முன்னுரிமை கடனீந்தோர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கூட்டத்தில் கலந்துக் கொள்ளும் உரிமை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8CA0-93BC-4B3E-824C-65506F020D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நிறும கூட்டங்கள்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பொருள் மற்றும் வகைகள்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828800"/>
            <a:ext cx="872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நிறுமக் கூட்டங்கள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[Company Meetings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ஒரு நிறுமத்தின் கூட்டம் என்பது பல வகையான சட்டவிதி கூறுகளுக்கு உட்பட்டு முறையான வகையில் ஒருங்கிணைக்கப்படும் நபர்களின் குழுவை கூட்டம் எனலா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ஒரு நிறுமம் தனது செயல்பாடுகள் குறித்து பல முடிவுகளை எடுக்க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ல வகையான கூட்டங்களை குறிப்பிட்ட கால இடைவெளிக்கு ஒருமுறை கூட்ட வேண்டியது அவசியமாகிற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ம கூட்டங்கள் சட்ட சரத்திற்கு உட்பட்டு எவ்வித ஒழுங்கீனத்தையும் மீறாமல் முறையாக நடைபெற்றது என உறுதி செய்ய வேண்டியது செயலரின் கடமை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நிறும கூட்டங்களின் வகைகள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[Kinds of Company Meetings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மச்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ன் படி நிறுமத்தின் கூட்டப்படும் கூட்டங்களை கீழ்காணும் முறையில் வகைப்படுத்தலா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பங்குநர்கள் கூட்ட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ட்டமுறைக் கூ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ஆண்டுப் பொதுக் கூ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ிறப்ப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சாரண கூட்ட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யக்குநரவை கூட்டங்கள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வைக் கூட்டம்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ுழுக் கூட்ட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ிறப்பு கூட்டங்கள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வகுப்பு கூ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டனீந்தோர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டனீட்டுப்பத்திரதாரர்கள் கூட்ட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ECEE-2AA7-4BD3-BB5A-53F7810237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தீர்மானம்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பொருள் மற்றும் வகைகள்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தீர்மானங்கள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[ Resolutions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 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மச்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ன் படி ஒரு முடிவை செயல்படுத்த பங்குநர்களின் ஒப்புதலை பெறுவது அவசியமாகிற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யக்குநரவையால் எடுக்கப்பட்ட ஒரு முடிவை நடைமுறைப்படுத்த சட்டப்படி குறைந்தளவு எண்ணிக்கைக் கொண்ட பங்குகளின் கூட்டத்தில் ஓட்டு பதிவு நடத்தியோ அல்லது வேறு முறையின் மூலமாக பங்குநர்களால் அளிக்கப்படும் ஒப்புதலை தீர்மானம் என்கிறோ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தீர்மானங்களின் வகைகள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[ Kinds of Resolutions 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ொதுவாக தீர்மானங்கள் மூன்று வகைகளாக பிரிக்கலா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ாதாரண தீர்மான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ிறப்பு தீர்மான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சிறப்பு அறிவிப்பு தீர்மான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A97-3DCB-4B93-825F-A30D51CAA0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5A2C-4692-4E73-8C25-94B63CF5AF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amini"/>
              </a:rPr>
              <a:t>1. njhopy; KidT Kd;Ndw;wj;jpw;F muR Nkw;nfhs;Sk; Kaw;rpfs;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ஸ்டாட்டப் இந்தியா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rtup Indi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இந்தியாவில் தயாரிப்பு திட்டம்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ke in India</a:t>
            </a: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அடல் புதுமை புகுத்தல் திட்டம்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tal Innovation Mission (AI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பெண்களுக்கு பயிற்சி மற்றும் வேலைவாய்ப்ப்பு திட்ட த்திற்கான ஆதரவு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pport to Training and Employment Programme for Women (STEP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ஜன்தன்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ஆதார்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மொபைல்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an-Dhan-Aadhar-Mobile (JA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இலக்குமுறை இந்தியா </a:t>
            </a: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) </a:t>
            </a: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டிஜிட்டல் இந்தியா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GITAL IND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ஸ்டாண்ட் அப் இந்தியா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nd-up Ind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வணிகம் சார்ந்த தொழில்முறை உதவி மற்றும் வளர்ச்சி திட்டம்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ade Related Entrepreneurship Assistance and Development (TREAD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பிரதான் மந்திரி குஷால் விகாஸ் திட்டம்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adhan Mandri Kaushal Vikas Yojana (PMKVY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தேசிய திறன் அபிவிருததி குறிக்கோள்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ational Skill Development Missio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NSDM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400" spc="-1" strike="noStrike">
                <a:solidFill>
                  <a:srgbClr val="000000"/>
                </a:solidFill>
                <a:latin typeface="Tahoma"/>
              </a:rPr>
              <a:t>விஞ்ஞான அடிப்படையில் அதிகார மளித்தல் மற்றும் அபிவிருத்தி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cience for Equity Empowerment and Development (SEED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வாக்களிப்பு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a-IN" sz="3000" spc="-1" strike="noStrike">
                <a:solidFill>
                  <a:srgbClr val="333399"/>
                </a:solidFill>
                <a:latin typeface="Tahoma"/>
              </a:rPr>
              <a:t>பொருள் மற்றும் முறைகள்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82600" y="2017440"/>
            <a:ext cx="77724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வாக்கெடுப்பு என்ற வார்த்தை லத்தீன் வார்த்தையான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”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வாக்க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என்ற சொல்லிருந்து தோன்றிய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ஒரு முன்மொழிவுக்கு ஆதரவாகவோ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ல்லது எதிராகவோ ஒருவர் தனது விருப்பத்தை உரியமுறையில் பதிவு செய்வதை வாக்கெடுப்பு குறிக்கிற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ஒரு நிறுமத்தின் முன்மொழிவை இயக்குநர்கள் வாக்கெடுப்பு நடத்தி முறையாக நிறைவேற்றப்பட வேண்ட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நிறுமச்சட்ட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013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பிரிவ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47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யின் படி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ஒவ்வொரு முன்மொழிவிலும் பெரும்பான்மை பங்குனர்களின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உறுப்பினர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ஒப்புதல் தேவைப்படும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ுன்மொழிவுக்கு வாக்கு அளிக்கும் உரிமை பங்குனர்களுக்கு உண்ட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000000"/>
                </a:solidFill>
                <a:latin typeface="Tahoma"/>
              </a:rPr>
              <a:t>வாக்கெடுப்பு நடைமுறைகள்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[Procedures of Voting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வாக்கெடுப்பில் இரண்டு வேறுபட்ட நடைமுறைகள் பயன்படுத்தப்படுகின்றன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திறந்த நடைமுறை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ரகசிய நடைமுறை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6F35-B954-433D-B9E7-37338FD76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371E-A995-4C3E-A822-16615590A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1600200" y="28440"/>
            <a:ext cx="5772240" cy="885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3408120" cy="5819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5532480" y="803160"/>
            <a:ext cx="28494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4563-7B1B-4FBC-8E1D-9BB80C930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33720" y="27432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Impact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2515-E685-46AB-86CA-750A76AB01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6164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amini"/>
              </a:rPr>
              <a:t>Fwpg;gpl;l njhopy; Kidg;Gj; jpl;lq;fs; gw;wp mwpjy;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0000"/>
                </a:solidFill>
                <a:latin typeface="Tahoma"/>
              </a:rPr>
              <a:t>திருத்தப்பட்ட சிறப்பு ஊக்கத் தொகுப்பு திட்டம்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ified Special Incentive Package Scheme (M-SIP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0000"/>
                </a:solidFill>
                <a:latin typeface="Tahoma"/>
              </a:rPr>
              <a:t>புதிய தலை முறை புதுமை புகுத்துதல் மற்றும் தொழில்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ta-IN" sz="1800" spc="-1" strike="noStrike">
                <a:solidFill>
                  <a:srgbClr val="000000"/>
                </a:solidFill>
                <a:latin typeface="Tahoma"/>
              </a:rPr>
              <a:t>முனைவோர் மேம்பாட்டு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Gen Innovation and Entrepreneurship Development Centre (New Gen IED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0000"/>
                </a:solidFill>
                <a:latin typeface="Tahoma"/>
              </a:rPr>
              <a:t>பால்பண்ணை தொழில் முனைவு மேம்பாட்டுத்திட்டம்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ry Entrepreneurship Development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0000"/>
                </a:solidFill>
                <a:latin typeface="Tahoma"/>
              </a:rPr>
              <a:t>ஒற்றை புள்ளி பதிவு திட்டம்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Point Registration Scheme (SP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0000"/>
                </a:solidFill>
                <a:latin typeface="Tahoma"/>
              </a:rPr>
              <a:t>அடல் இன்புவேஷன் சென்டர்ஸ்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al Incubation centres (AI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4FB-75E4-406F-93EF-E5D7530D28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. </a:t>
            </a:r>
            <a:r>
              <a:rPr b="1" lang="en-US" sz="3600" spc="-1" strike="noStrike">
                <a:solidFill>
                  <a:srgbClr val="333399"/>
                </a:solidFill>
                <a:latin typeface="Bamini"/>
              </a:rPr>
              <a:t>njhopy; KidNthu; Jiwia Nkk;gLj;Jtjpy; cs;s gb epiyfs;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பொருள் தேர்வு எதர்பார்ப்பு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ion of the produc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உரிமையின் வடிவத்தை தேர்வு செய்தல்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ion of form of Ownershi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இடத்தேர்வு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ion of Sit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மூலதன கட்டமைப்பை தீர்மானித்தல்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ing Capital Structur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உற்பத்தியை கையகப்படுத்துதல் என்பதை அறிதல்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quisition of Manufacturing Know-how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திட்ட அறிக்கை தயாரித்தல்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paration of Project Repor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தற்கா</a:t>
            </a:r>
            <a:r>
              <a:rPr b="1" lang="en-US" sz="2400" spc="-1" strike="noStrike">
                <a:solidFill>
                  <a:srgbClr val="000000"/>
                </a:solidFill>
                <a:latin typeface="Bamini"/>
              </a:rPr>
              <a:t>ypfkhd g</a:t>
            </a: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திவுசான்றிதழ் </a:t>
            </a: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isional Registration Certificat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நிரந்தர பதிவு சான்றிதழ்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manent Registration Certificat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சட்ட பூர்வ உரிமம்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tory Lice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மின் இணைப்பு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wer Conn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600" spc="-1" strike="noStrike">
                <a:solidFill>
                  <a:srgbClr val="000000"/>
                </a:solidFill>
                <a:latin typeface="Tahoma"/>
              </a:rPr>
              <a:t>நிதி ஏற்பாடு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rangement of Fin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562720" y="4114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B26-E5CB-47DB-955A-51CF4CB970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V</a:t>
            </a:r>
            <a:r>
              <a:rPr b="0" lang="en-US" sz="2800" spc="-1" strike="noStrike">
                <a:solidFill>
                  <a:srgbClr val="333399"/>
                </a:solidFill>
                <a:latin typeface="Bamini"/>
              </a:rPr>
              <a:t>  jkpof murpd; njhopy; KidNthUf;fhd jpl;lq;fs;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280" y="1523880"/>
          <a:ext cx="8763120" cy="4686480"/>
        </p:xfrm>
        <a:graphic>
          <a:graphicData uri="http://schemas.openxmlformats.org/drawingml/2006/table">
            <a:tbl>
              <a:tblPr/>
              <a:tblGrid>
                <a:gridCol w="2190960"/>
                <a:gridCol w="2189160"/>
                <a:gridCol w="2192400"/>
                <a:gridCol w="2190600"/>
              </a:tblGrid>
              <a:tr h="3049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000" spc="-1" strike="noStrike">
                          <a:solidFill>
                            <a:srgbClr val="ff0000"/>
                          </a:solidFill>
                          <a:latin typeface="Calibri"/>
                          <a:cs typeface="Latha"/>
                        </a:rPr>
                        <a:t>திட்டங்கள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000" spc="-1" strike="noStrike">
                          <a:solidFill>
                            <a:srgbClr val="ff0000"/>
                          </a:solidFill>
                          <a:latin typeface="Calibri"/>
                          <a:cs typeface="Latha"/>
                        </a:rPr>
                        <a:t>துறைகள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000" spc="-1" strike="noStrike">
                          <a:solidFill>
                            <a:srgbClr val="ff0000"/>
                          </a:solidFill>
                          <a:latin typeface="Calibri"/>
                          <a:cs typeface="Latha"/>
                        </a:rPr>
                        <a:t>நோக்கங்கள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a-IN" sz="1000" spc="-1" strike="noStrike">
                          <a:solidFill>
                            <a:srgbClr val="ff0000"/>
                          </a:solidFill>
                          <a:latin typeface="Calibri"/>
                          <a:cs typeface="Latha"/>
                        </a:rPr>
                        <a:t>உதவி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cs typeface="Latha"/>
                        </a:rPr>
                        <a:t>யி</a:t>
                      </a:r>
                      <a:r>
                        <a:rPr b="1" lang="ta-IN" sz="1000" spc="-1" strike="noStrike">
                          <a:solidFill>
                            <a:srgbClr val="ff0000"/>
                          </a:solidFill>
                          <a:latin typeface="Calibri"/>
                          <a:cs typeface="Latha"/>
                        </a:rPr>
                        <a:t>ன் அளவ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43560" rIns="435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ேலையில்லா வேல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Latha"/>
                        </a:rPr>
                        <a:t>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ாய்ப்பு உருவாக்கும் திட்டம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மிழ் நுண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,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சிறிய மற்றும் நடுத்தர நிறுவனங்களுக்கான தமிழக அரசுதுற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ேலையின்மை அகற்றுதல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சொந்த ஊரிலேயே சுய தொழிலில் ஈடுபட தூண்டுதல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நகர்புறம் நோக்கி இடம் பெயர்வதை தடுக்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ரூபாய் ஒரு இலட்சம் முதல் பத்து இலட்சம் வரை பல்வேறு சொற் பகர்வுகளுடன் வழங்கப்படும் நிதிஉதவ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43560" rIns="435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ொழில் முநைவோர் மேம்பாட்டுத் திட்டம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மிழ்நாடு தொழில் முதலீட்டு கழகம் லிமிடெட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ொருளாதாரம் மற்றும் சமூக நிலையில் பின் தங்கிய நபர்களை சுயதொழில் துவங்கி வருமானம் ஈட்டி கண்ணிய மாக வாழ ஆர்வமூட்டுதல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ரூபாய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50000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ுதல் ரூபாய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5,00,000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ரை பல்வேறு சொற்பகர்வுகளுடன் வழங்கப்படும் நிதிஉதவ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43560" rIns="435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ுதிய தொழில் முனைவோர் மற்றும் தொழில் துணிவு வளர்ச்சி திட்டம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மிழக அரசு தொழில் மற்றும் வணிக இயக்ககம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இளைஞர்கள் மற்றும் படித்த தொழில் முனைவோருக்கு மானியம் மற்றும் நிதிவசதி அளித்து புதிய தொழிலை துவக்க வாய்ப்பு அளிப்பதற்காக ஏற்படுத்தப்பட்டத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ட்டப்படிப்ப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,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ட்டயப் படிப்ப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,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ொழிற்கல்வி பயின்ற இளைஞர்களை ஈர்ப்பதற்கான திட்டம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roman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செயல்திட்ட மதிப்பில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25%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ிகாமல் அல்லது ரூ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.25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இலட்சம் வரையிலான தொகைக்கு தேவை திட்டம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(NEEDS scheme)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கீழ் மானியம் வழங்கப்படுகிறத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roman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ஒரு கோடி ரூபாய்க்கு மேல் சமர்ப்பிக்கப்படும் செயல்திட்டங்களுக்கு ரூபாய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25 </a:t>
                      </a:r>
                      <a:r>
                        <a:rPr b="0" lang="ta-IN" sz="10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ரை மானியம் வழங்கப்படும்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FC70-D707-416F-BE72-FE8819BDA7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99"/>
                </a:solidFill>
                <a:latin typeface="Bamini"/>
              </a:rPr>
              <a:t>jkpof murpd; njhopy; </a:t>
            </a:r>
            <a:r>
              <a:rPr b="0" lang="en-US" sz="3300" spc="-1" strike="noStrike">
                <a:solidFill>
                  <a:srgbClr val="333399"/>
                </a:solidFill>
                <a:latin typeface="Bamini"/>
              </a:rPr>
              <a:t>	</a:t>
            </a:r>
            <a:r>
              <a:rPr b="0" lang="en-US" sz="3300" spc="-1" strike="noStrike">
                <a:solidFill>
                  <a:srgbClr val="333399"/>
                </a:solidFill>
                <a:latin typeface="Bamini"/>
              </a:rPr>
              <a:t>	</a:t>
            </a:r>
            <a:r>
              <a:rPr b="0" lang="en-US" sz="3300" spc="-1" strike="noStrike">
                <a:solidFill>
                  <a:srgbClr val="333399"/>
                </a:solidFill>
                <a:latin typeface="Bamini"/>
              </a:rPr>
              <a:t>KidNthUf;fhd jpl;lq;fs; ………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600200"/>
          <a:ext cx="8610480" cy="4627440"/>
        </p:xfrm>
        <a:graphic>
          <a:graphicData uri="http://schemas.openxmlformats.org/drawingml/2006/table">
            <a:tbl>
              <a:tblPr/>
              <a:tblGrid>
                <a:gridCol w="2152440"/>
                <a:gridCol w="2151000"/>
                <a:gridCol w="2154240"/>
                <a:gridCol w="215280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மிழ பிற்படுத்தப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Latha"/>
                        </a:rPr>
                        <a:t>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ட்டோர் பொர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Latha"/>
                        </a:rPr>
                        <a:t>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ளாதார மேம்பாட்டு கழகம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ி்ற்படுத்தப்பட்ட மற்றும் மிகவும் பிற்படுத்தப்பட் மற்றும் சிறபான்மையர் நலத்துற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ொருளாதார ரீதியாக மற்றும் நிதி ரீதியா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roman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ரூபாய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15,000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முதல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3,00,000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ரை பல்வேறு கொற்பகர்வுகளுடன் வழங்கப்படும் நிதி உதவ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மிழ்நாடு தொழில் கூட்டுறவு வங்கி லிமிடெட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நிதி இடைநிலையர்கள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தொழில் வினை துவங்க பின் தங்கிய மற்றும் இதர வகுப்பினர்களுக்க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TABCEDCO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ங்கியுடன் இணைந்து நிதி உதவி அளித்த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ல்வேறு தொழில் வினைகளுக்கு நெறிப்படி நிதி வழங்குத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ஆதி திராவிடர் நல இயக்ககம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வேளாண்துற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ெண்கள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atha"/>
                          <a:ea typeface="Latha"/>
                        </a:rPr>
                        <a:t>, </a:t>
                      </a: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ஆதி திராவிடர் மற்றும் பழங்குடியினர்கள் மாற்றுதிறனாளிகள் மற்றும் திருநங்கை போன்ற தொழில்முனைவோருக்கு கூடுதல் முதல் மானியம் வழங்குத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a-IN" sz="1200" spc="-1" strike="noStrike">
                          <a:solidFill>
                            <a:srgbClr val="000000"/>
                          </a:solidFill>
                          <a:latin typeface="Calibri"/>
                          <a:cs typeface="Latha"/>
                        </a:rPr>
                        <a:t>பல்வேறு தொழில் வினைகளுக்கு நெறிப்படி நிதி வழங்குதல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363600" y="990720"/>
            <a:ext cx="8377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6EF-ACAE-4D07-A043-2E1A73C3C4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76212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amini"/>
              </a:rPr>
              <a:t>epWk rl;lk; kw;Wk; epWkj;jpd; jhf;fq;fs; gw;wpa tsh;r;rpfs;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7880" indent="-47880"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இந்திய</a:t>
            </a:r>
            <a:r>
              <a:rPr b="0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நிறுவனச்</a:t>
            </a:r>
            <a:r>
              <a:rPr b="0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சட்டத்தின்</a:t>
            </a:r>
            <a:r>
              <a:rPr b="0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வரலாறும்</a:t>
            </a:r>
            <a:r>
              <a:rPr b="0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பரிணாமும்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47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ங்கிலாந்தில் இயங்கி வந்த 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வர்த்தகர்களின் வழிகாட்டி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Merchant Guilds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என்ற அமைப்பு ஆரம்ப காலங்களில் வியாபார வழிகாட்டியாக திகழ்ந்த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ேலும் சில வணிகர் சங்கங்கள்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அ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குழுக்கள் இந்த நிறுவனங்களை கட்டுப்படுத்தி வழி நடத்தின என்றால் மிகையாகா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47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 u="sng">
                <a:solidFill>
                  <a:srgbClr val="000000"/>
                </a:solidFill>
                <a:uFillTx/>
                <a:latin typeface="Tahoma"/>
              </a:rPr>
              <a:t>தலைப்பு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47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i)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600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ஆண்டு கிழக்கு இந்திய கம்பெனியானது ராயல் சார்ட்டரால் நிறுவப்பட்ட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47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844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ல் முதன் முறையாக இங்கிலாந்து நாட்டில் கூட்டு பங்கு நிறுவனங்களின் சட்டம் நிறைவேற்றப்பட்ட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47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iii)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850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ஆண்டில் முன்னர் வழக்கில் இருந்த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1844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ம் ஆண்ட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ta-IN" sz="1500" spc="-1" strike="noStrike">
                <a:solidFill>
                  <a:srgbClr val="000000"/>
                </a:solidFill>
                <a:latin typeface="Tahoma"/>
              </a:rPr>
              <a:t>இங்கிலாந்து கூட்டு பங்கு நிறுவனச் சட்டத்தினை அடிப்படையாக கொண்டு இந்தியாவில் கூட்டு பங்கு நிறுவனச் சட்டம் முதல் ஏற்பாடு செய்யப்பட்டது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478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478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0:06:24Z</dcterms:created>
  <dc:creator>pgpi</dc:creator>
  <dc:description/>
  <dc:language>en-US</dc:language>
  <cp:lastModifiedBy>ramesh</cp:lastModifiedBy>
  <dcterms:modified xsi:type="dcterms:W3CDTF">2019-05-28T07:28:57Z</dcterms:modified>
  <cp:revision>163</cp:revision>
  <dc:subject/>
  <dc:title>SET OFF &amp; CARRY FORWARD OF LOSSES</dc:title>
</cp:coreProperties>
</file>